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BC2-0B3E-48B4-AC0B-3C496CF6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5F3-DDDD-4B9C-B360-8CD887C2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E3F-002F-4D0D-A39E-1AC20CA7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075-F31B-45A0-8DE8-DB02A867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C5A-A651-4B9F-BF98-58118CFD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591-77F7-472C-BA41-F913F824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9A5-2F1B-4079-BC95-00FB750E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6C6-8B3C-443D-B30F-26502545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C4B-8D6B-4890-B5AA-3B209840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A29-CF07-4523-9A58-5604D765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8FB-B0B5-4395-946F-672B1961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9C2-AD3B-4CB0-9BA3-2B647F5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BC6A-A4CD-46C9-80AD-7030BA2303A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1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1200" y="46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7.2 THE FORMATION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-142920" y="128592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ωσ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ελ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ων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θῃ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ωσι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786040" y="1827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Active Subjunc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2786040" y="2428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786040" y="305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Act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2786040" y="36640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iddle/Pass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786040" y="4300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assive Subjunc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2786040" y="4915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2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-142920" y="128592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ξωμ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ητ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ητ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ω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ουμε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786040" y="1827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Middle Subjunc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786040" y="24289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iddle/Pass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86040" y="305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Active Subjunc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786040" y="36640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Subjunc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786040" y="4300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Active Subjunc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786040" y="4915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Active Indicative 1st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41200" y="46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7.2 THE FORMATION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4440" y="1258920"/>
            <a:ext cx="41432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λθες ἱνα ἀκουῃ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προφηται ἀπεσταλησαν ἱν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εγωσιν ὑπερ του θε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ς ἀν βλεπῃ με, βλεπει τ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ατερ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κρατησαν τον Παυλον ἱνα μη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υγ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ταν πορευησθε, φοβουμα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που πορευον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429080" y="1943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d you come so that you might he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429080" y="2357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rophets were sent in order that they might speak on behalf of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429080" y="318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ever sees me, sees the fa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429080" y="40273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seizes Paul so that he would not fl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429080" y="48848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ever you go, I am afra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429080" y="5286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re are they go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4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44440" y="1258920"/>
            <a:ext cx="41432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ἀποστολος ἐγραψεν ὑμιν ἱν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ιστευσητ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που ἀν ἐλθῃ ὁ Ἰησους, μεγας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ὀχλος συνηχθ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cast out the demons in ord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at he might be sa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ever entered the city di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called to her so she would h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ever I look I see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ountai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429080" y="1943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apostle wrote to you in order that you might believe (come to believ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4429080" y="2771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rever Jesus went a great crowd gathe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4429080" y="361152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Ἰησους ἐξεβαλεν τα δαιμονια ἱνα σωθ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4429080" y="4429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ς ἀν εἰσελθῃ την πολιν ἀπεθανε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4429080" y="48578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αλεσα αὐτῃ ἱνα ἀκουσ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4429080" y="52592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ταν βλεπω τα ὀρη βλεπ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7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5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7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USE OF THE SUBJUNC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4440" y="1258920"/>
            <a:ext cx="414324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που ἐλθ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η ἐξελθητ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ὐ μη ὑπαγαγωσι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οξαζωμεν τον του κοσμ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υρ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 ἀκουσωμεν του διδασκαλ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ζητωμεν ἁγιαν ζωη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429080" y="1943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re should I g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429080" y="2357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 not lea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42908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ill never de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429080" y="3187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et us glorify the lord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429080" y="4027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should we listen to the teach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429080" y="4456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et us seek a holy lif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27:40Z</dcterms:created>
  <dc:creator>Sarah</dc:creator>
  <dc:description/>
  <dc:language>en-US</dc:language>
  <cp:lastModifiedBy>Sarah</cp:lastModifiedBy>
  <dcterms:modified xsi:type="dcterms:W3CDTF">2008-10-08T19:15:46Z</dcterms:modified>
  <cp:revision>16</cp:revision>
  <dc:subject/>
  <dc:title>Slide 1</dc:title>
</cp:coreProperties>
</file>